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C1B4-BB24-4860-BE89-1373214A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204F-EDC7-481F-89B6-A8B91798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4799-7689-4847-AA2D-D420E0C5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523A-88D0-4EFD-88EA-C219D817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F1AD-5300-44AD-B3D1-3487EA41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D43A-1DA7-4DCD-AACE-9412593B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FFFF-BBDF-47E1-AC7F-254B7E6C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2024-F702-45BC-8E90-97FBD1DF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2D8C-6854-473A-9D6C-BD60B0CD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1BD4-E771-4792-9223-410F1BD8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755A-F09F-4AEA-A760-7C293522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BAD7-7D8A-4A57-A312-4D199310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F825-A0EB-465B-9E40-6D5C083C4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image" Target="../media/image20.png"/><Relationship Id="rId5" Type="http://schemas.openxmlformats.org/officeDocument/2006/relationships/image" Target="../media/image15.png"/><Relationship Id="rId6" Type="http://schemas.openxmlformats.org/officeDocument/2006/relationships/image" Target="../media/image12.png"/><Relationship Id="rId7" Type="http://schemas.openxmlformats.org/officeDocument/2006/relationships/image" Target="../media/image8.png"/><Relationship Id="rId8" Type="http://schemas.openxmlformats.org/officeDocument/2006/relationships/image" Target="../media/image11.png"/><Relationship Id="rId9" Type="http://schemas.openxmlformats.org/officeDocument/2006/relationships/image" Target="../media/image3.png"/><Relationship Id="rId10" Type="http://schemas.openxmlformats.org/officeDocument/2006/relationships/image" Target="../media/image17.png"/><Relationship Id="rId11" Type="http://schemas.openxmlformats.org/officeDocument/2006/relationships/image" Target="../media/image2.png"/><Relationship Id="rId12" Type="http://schemas.openxmlformats.org/officeDocument/2006/relationships/image" Target="../media/image21.png"/><Relationship Id="rId13" Type="http://schemas.openxmlformats.org/officeDocument/2006/relationships/image" Target="../media/image16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9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LLEYB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914560" y="2209680"/>
            <a:ext cx="351180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Volleyball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 players from each team are on the court at on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mes are played to 15, 25, or 30 points depending on the level (win by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am needs to win 2 out of 3 games, or 3 out of 5 games to win the m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 a team serves, all six players rotate clockwise one 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ms are allowed up to three hits to successfully return the ball to the opponents side of the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15238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 PLAY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yers cannot touch or go under the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yers cannot lift or throw the ball and cannot use an open hand to hit the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all landing on the line is considered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ack row player cannot attack at the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5521320" y="4876920"/>
            <a:ext cx="1400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0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Volleyball 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 - both underhand and overh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mp  - receiving serve and passing to the s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 - receiving the pass and setting the ball for the hitters (spik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 - usually back row players that successfully keep a spiked ball in 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ike  - forcefully hit the ball downward at the opponent (ki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5334120" y="5346720"/>
            <a:ext cx="15364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4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lleyball Terminolog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e - a serve that hits the floor or cannot be handled by the receiv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mp - a skill used to pass the ball to the setter (usually on serve rece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 - a skill used to keep forcefully hit balls from scoring a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lly scoring - a scoring system that allows every serve to be scored as a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l - a point scored off of a sp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tters - players who spike the b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7196040" y="4800600"/>
            <a:ext cx="1351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lleyball Terminology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tate - where players on the team receiving the serve move one position clockw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 - the skill used to put the ball into 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- the skill used to receive a pass and set the ball close to the net for the hi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ike - a skill where a player forcefully hits the bal downward onto the opponents co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ley - when two teams continually hit the ball  back and forth over the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324480" y="5486400"/>
            <a:ext cx="16002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53388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ORTSMA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HOW YOU PLAY THE GAME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3124080" y="3986280"/>
            <a:ext cx="31244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533520" y="4724280"/>
            <a:ext cx="1689120" cy="1689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1054080" cy="1346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457200" y="2514600"/>
            <a:ext cx="774720" cy="1511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4"/>
          <a:stretch/>
        </p:blipFill>
        <p:spPr>
          <a:xfrm>
            <a:off x="7238880" y="457200"/>
            <a:ext cx="1473480" cy="990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5"/>
          <a:stretch/>
        </p:blipFill>
        <p:spPr>
          <a:xfrm>
            <a:off x="7924680" y="2514600"/>
            <a:ext cx="851040" cy="1295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6"/>
          <a:stretch/>
        </p:blipFill>
        <p:spPr>
          <a:xfrm>
            <a:off x="7238880" y="5029200"/>
            <a:ext cx="1524240" cy="1219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7"/>
          <a:stretch/>
        </p:blipFill>
        <p:spPr>
          <a:xfrm>
            <a:off x="2209680" y="0"/>
            <a:ext cx="1041480" cy="1574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"/>
          <p:cNvPicPr/>
          <p:nvPr/>
        </p:nvPicPr>
        <p:blipFill>
          <a:blip r:embed="rId8"/>
          <a:stretch/>
        </p:blipFill>
        <p:spPr>
          <a:xfrm>
            <a:off x="4952880" y="6094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9"/>
          <a:stretch/>
        </p:blipFill>
        <p:spPr>
          <a:xfrm>
            <a:off x="2133720" y="2514600"/>
            <a:ext cx="330120" cy="1460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"/>
          <p:cNvPicPr/>
          <p:nvPr/>
        </p:nvPicPr>
        <p:blipFill>
          <a:blip r:embed="rId10"/>
          <a:stretch/>
        </p:blipFill>
        <p:spPr>
          <a:xfrm>
            <a:off x="3124080" y="5486400"/>
            <a:ext cx="1028880" cy="736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"/>
          <p:cNvPicPr/>
          <p:nvPr/>
        </p:nvPicPr>
        <p:blipFill>
          <a:blip r:embed="rId11"/>
          <a:stretch/>
        </p:blipFill>
        <p:spPr>
          <a:xfrm>
            <a:off x="5181480" y="4800600"/>
            <a:ext cx="1244880" cy="142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"/>
          <p:cNvPicPr/>
          <p:nvPr/>
        </p:nvPicPr>
        <p:blipFill>
          <a:blip r:embed="rId12"/>
          <a:stretch/>
        </p:blipFill>
        <p:spPr>
          <a:xfrm>
            <a:off x="3733920" y="457200"/>
            <a:ext cx="901440" cy="1384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"/>
          <p:cNvPicPr/>
          <p:nvPr/>
        </p:nvPicPr>
        <p:blipFill>
          <a:blip r:embed="rId13"/>
          <a:stretch/>
        </p:blipFill>
        <p:spPr>
          <a:xfrm>
            <a:off x="5410080" y="2819520"/>
            <a:ext cx="1600200" cy="1054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"/>
          <p:cNvPicPr/>
          <p:nvPr/>
        </p:nvPicPr>
        <p:blipFill>
          <a:blip r:embed="rId14"/>
          <a:stretch/>
        </p:blipFill>
        <p:spPr>
          <a:xfrm>
            <a:off x="3124080" y="2895480"/>
            <a:ext cx="15368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977760" cy="1384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0" y="609480"/>
            <a:ext cx="1879560" cy="1422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1663560" cy="1701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4"/>
          <a:stretch/>
        </p:blipFill>
        <p:spPr>
          <a:xfrm>
            <a:off x="4718160" y="4267080"/>
            <a:ext cx="1492200" cy="1905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5"/>
          <a:stretch/>
        </p:blipFill>
        <p:spPr>
          <a:xfrm>
            <a:off x="7454880" y="3581280"/>
            <a:ext cx="16891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Y THE END OF THIS UNIT, YOU SHOULD BE ABLE T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e proper technique for various skills used in the game of volleyb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lay an understanding of basic offensive and defensive strategies for game pl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basic terminology used in the game of volleyb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lines and areas of the cou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basic volleyball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8209080" y="2438280"/>
            <a:ext cx="88236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VOLLEYB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895, William Morgan, an instructor at the YMCA in Holyoke, Mass., decided to combine the elements of tennis, basketball, baseball, and handball.  _x0008_He created the game of volley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S ABOUT THE GAME OF VOLLEYB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leyball in its original form was called mintonet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64, volleyball became a full medal sport in the Olympic Games in Tokyo, Jap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96, 2-person beach volleyball was added to the Olympic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 there are more than 800 million players worldwide who play volleyb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5791320" y="4632480"/>
            <a:ext cx="28954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457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LLEYBALL EQUI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LEYB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S AND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2387520" cy="2387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4952880" y="2971800"/>
            <a:ext cx="38102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lleyball Court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line - line on the end of the co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line - line on the side of the co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 foot attack line - for back row pla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er line - line under the net that divides the court into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ng 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943600" y="4521240"/>
            <a:ext cx="15447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8088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LLEYBALL COU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315200" cy="937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-1371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lleyball Positions &amp; R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838080"/>
            <a:ext cx="6400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Front, Center Front, Right Front. Left Back. Center Back,  Right Back Players rotate clockw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594360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rver has to serve the ball from behind the end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rver can serve either underhand or overh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rver only gets one attempt (try) to serve the ball over the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serving team scores the point, the same player will keep serving until the opponents score a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ll hitting the net and going on over to the opponents side is a legal se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7543800" y="53341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8T12:08:15Z</dcterms:created>
  <dc:creator>OMS</dc:creator>
  <dc:description/>
  <dc:language>en-US</dc:language>
  <cp:lastModifiedBy>Aamir Ch</cp:lastModifiedBy>
  <dcterms:modified xsi:type="dcterms:W3CDTF">2020-03-28T11:30:13Z</dcterms:modified>
  <cp:revision>6</cp:revision>
  <dc:subject/>
  <dc:title>VOLLEYBALL</dc:title>
</cp:coreProperties>
</file>